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083-7AA4-4D80-B1A2-1F97F69F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169-14C5-4D1F-8D42-237D412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024-226D-4310-9E08-FBFC0A90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565-9F65-47E9-98E9-CDF156E3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DAC-0F15-4D0B-9CAA-66FECEFB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5B4-629D-4104-B795-7DB5D2AB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37B-DF4B-4C91-9C37-A7B418B8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D1A1-3227-4D39-ACD8-FF97EAF0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6F03-90E8-4535-B32D-9E01652A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6B4-B649-43E0-9896-A4C9757C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01E4-31D2-4E12-84FC-4F1D38F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273-B267-4AD2-8FCB-1750120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BDD1-D617-4B2A-AFE8-7ADDB40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5B13-CE83-47B9-A218-B4CD430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F6D8-AEC7-4A8D-A864-50404C0E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0D7B-A971-48F0-BCC2-EA214BC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3E7-0C09-4577-B757-73B7E204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84C-05C8-4480-9E0A-31E2516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D57-ACAC-4E49-BFCA-5F7A17B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BBE-B53C-407E-9593-059DA1B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D79-467A-4074-9C8E-7E5AD028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3C3-8B30-4178-9CCF-492C5ED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6DC-F42E-4180-9716-32CA7A4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7BA-8A0A-41EF-989D-2ED6935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5E3-B9C3-4944-B773-D4A18425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A3E-A718-4125-9945-926021BDAA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62120" y="609480"/>
          <a:ext cx="8229600" cy="5639040"/>
        </p:xfrm>
        <a:graphic>
          <a:graphicData uri="http://schemas.openxmlformats.org/drawingml/2006/table">
            <a:tbl>
              <a:tblPr/>
              <a:tblGrid>
                <a:gridCol w="914400"/>
                <a:gridCol w="582480"/>
                <a:gridCol w="747720"/>
                <a:gridCol w="747720"/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</a:tblGrid>
              <a:tr h="42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ระเภท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ชั้น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ความรู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ทักษ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มรรถน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ใน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ฎหมา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อม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ังกฤ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นว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จัดการข้อมูล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hi-I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หลั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างการบริห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ฉพา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ทร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งา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าวุโส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พิเศ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ก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พิเศ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ชี่ยวชา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รงคุณวุฒ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ต้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สู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67"/>
          <p:cNvSpPr/>
          <p:nvPr/>
        </p:nvSpPr>
        <p:spPr>
          <a:xfrm>
            <a:off x="-111600" y="42840"/>
            <a:ext cx="86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ระดับสมรรถนะหลักที่คาดหวัง แบ่งตามประเภทและชั้น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68"/>
          <p:cNvSpPr/>
          <p:nvPr/>
        </p:nvSpPr>
        <p:spPr>
          <a:xfrm>
            <a:off x="0" y="32004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69"/>
          <p:cNvSpPr/>
          <p:nvPr/>
        </p:nvSpPr>
        <p:spPr>
          <a:xfrm>
            <a:off x="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0"/>
          <p:cNvSpPr/>
          <p:nvPr/>
        </p:nvSpPr>
        <p:spPr>
          <a:xfrm>
            <a:off x="81000" y="1446120"/>
            <a:ext cx="59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ทั่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71"/>
          <p:cNvSpPr/>
          <p:nvPr/>
        </p:nvSpPr>
        <p:spPr>
          <a:xfrm>
            <a:off x="-20160" y="3705120"/>
            <a:ext cx="7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วิ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</a:rPr>
              <a:t>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72"/>
          <p:cNvSpPr/>
          <p:nvPr/>
        </p:nvSpPr>
        <p:spPr>
          <a:xfrm>
            <a:off x="85680" y="549108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อ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นวยการ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h-TH" sz="1600" spc="-1" strike="noStrike">
                <a:solidFill>
                  <a:srgbClr val="ffffff"/>
                </a:solidFill>
                <a:latin typeface="Arial"/>
              </a:rPr>
              <a:t>บริห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74"/>
          <p:cNvSpPr/>
          <p:nvPr/>
        </p:nvSpPr>
        <p:spPr>
          <a:xfrm>
            <a:off x="7541640" y="74520"/>
            <a:ext cx="140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แบบ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DP 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7:22:59Z</dcterms:created>
  <dc:creator>acer</dc:creator>
  <dc:description/>
  <dc:language>en-US</dc:language>
  <cp:lastModifiedBy>HomeUser</cp:lastModifiedBy>
  <dcterms:modified xsi:type="dcterms:W3CDTF">2012-05-24T04:51:36Z</dcterms:modified>
  <cp:revision>22</cp:revision>
  <dc:subject/>
  <dc:title>ภาพนิ่ง 1</dc:title>
</cp:coreProperties>
</file>